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D9E07-EE5F-4F4F-9838-C683E6561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F71E4-A87C-4E58-97B9-89456B505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0158-D135-4699-9F8E-30DBA99A5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33D6-EAE6-468D-9F0B-936CDD366C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8CB3F-4292-49C2-B180-287EF454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EBE27-CCAF-487D-9EFE-C1EE1A766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9EAE-88C2-46EE-857D-59C0F5516C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8F042-D8ED-4891-88E6-172A08FA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CB952-A416-4309-A761-8F79680E5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C8BA-5129-46FE-9477-DC0B9BB02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0F9D8-3F54-46A8-9C3D-4A589D38C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71D4C-6FA1-4B55-B4ED-C49E5A9F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6E5E2-15AC-4129-A5DB-20C02E2C9CDF}" type="slidenum">
              <a:rPr b="0" lang="zh-TW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3200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8800" spc="-1" strike="noStrike">
                <a:solidFill>
                  <a:srgbClr val="000000"/>
                </a:solidFill>
                <a:latin typeface="標楷體"/>
                <a:ea typeface="標楷體"/>
              </a:rPr>
              <a:t>教務處頒獎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圖片 3" descr=""/>
          <p:cNvPicPr/>
          <p:nvPr/>
        </p:nvPicPr>
        <p:blipFill>
          <a:blip r:embed="rId1"/>
          <a:stretch/>
        </p:blipFill>
        <p:spPr>
          <a:xfrm>
            <a:off x="3132000" y="404640"/>
            <a:ext cx="2516400" cy="359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412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分組合作學習  </a:t>
            </a:r>
            <a:r>
              <a:rPr b="1" lang="zh-TW" sz="4800" spc="-1" strike="noStrike">
                <a:solidFill>
                  <a:srgbClr val="000000"/>
                </a:solidFill>
                <a:latin typeface="Calibri"/>
              </a:rPr>
              <a:t>專業社群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alibri"/>
              </a:rPr>
              <a:t>張沛檥 老師</a:t>
            </a: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、林順裕 老師、吳建璿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70c0"/>
                </a:solidFill>
                <a:latin typeface="標楷體"/>
                <a:ea typeface="標楷體"/>
              </a:rPr>
              <a:t>國際教育  </a:t>
            </a:r>
            <a:r>
              <a:rPr b="1" lang="zh-TW" sz="4800" spc="-1" strike="noStrike">
                <a:solidFill>
                  <a:srgbClr val="000000"/>
                </a:solidFill>
                <a:latin typeface="Calibri"/>
              </a:rPr>
              <a:t>推動小組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2133360"/>
            <a:ext cx="8229600" cy="35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Calibri"/>
              </a:rPr>
              <a:t>鄭敬儀 主任</a:t>
            </a: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、林文杰 老師、王怡文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謝依萍  老師、余玥琳 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謝佳琪  老師、陳昭宏 老師、李政學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金中</a:t>
            </a:r>
            <a:r>
              <a:rPr b="1" lang="en-US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i</a:t>
            </a: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探索課程發展 </a:t>
            </a:r>
            <a:r>
              <a:rPr b="1" lang="zh-TW" sz="4800" spc="-1" strike="noStrike">
                <a:solidFill>
                  <a:srgbClr val="000000"/>
                </a:solidFill>
                <a:latin typeface="Calibri"/>
              </a:rPr>
              <a:t>專業社群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2133720"/>
            <a:ext cx="8229600" cy="35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吳建璿 </a:t>
            </a:r>
            <a:r>
              <a:rPr b="0" lang="zh-TW" sz="3500" spc="-1" strike="noStrike">
                <a:solidFill>
                  <a:srgbClr val="000000"/>
                </a:solidFill>
                <a:latin typeface="Calibri"/>
              </a:rPr>
              <a:t>老師</a:t>
            </a: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、李宜芬 老師、蔡佳樺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李政學 老師、施佩吟 老師、徐紹青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500" spc="-1" strike="noStrike">
                <a:solidFill>
                  <a:srgbClr val="000000"/>
                </a:solidFill>
                <a:latin typeface="新細明體"/>
              </a:rPr>
              <a:t>龔偉遜  老師、李清波  老師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0070c0"/>
                </a:solidFill>
                <a:latin typeface="標楷體"/>
                <a:ea typeface="標楷體"/>
              </a:rPr>
              <a:t>高中部   </a:t>
            </a: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各領域召集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李佳樺  老師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、謝佳琪  老師、林恩宇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林文杰  老師、陳琬晴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譚雅婷  老師、汪麗鈴  老師、陳淑芬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800" spc="-1" strike="noStrike">
                <a:solidFill>
                  <a:srgbClr val="ff0000"/>
                </a:solidFill>
                <a:latin typeface="標楷體"/>
                <a:ea typeface="標楷體"/>
              </a:rPr>
              <a:t>國中部</a:t>
            </a:r>
            <a:r>
              <a:rPr b="1" lang="zh-TW" sz="4800" spc="-1" strike="noStrike">
                <a:solidFill>
                  <a:srgbClr val="0070c0"/>
                </a:solidFill>
                <a:latin typeface="標楷體"/>
                <a:ea typeface="標楷體"/>
              </a:rPr>
              <a:t>   </a:t>
            </a:r>
            <a:r>
              <a:rPr b="1" lang="zh-TW" sz="4400" spc="-1" strike="noStrike">
                <a:solidFill>
                  <a:srgbClr val="000000"/>
                </a:solidFill>
                <a:latin typeface="Calibri"/>
              </a:rPr>
              <a:t>各領域召集人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Calibri"/>
              </a:rPr>
              <a:t>陳佳伶  老師</a:t>
            </a: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、黃政榕  老師、王莉婷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林順裕  老師、陳顗安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陳怡蒨  老師、呂榮輝  老師、鍾育倫  老師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30T01:09:01Z</dcterms:created>
  <dc:creator>User</dc:creator>
  <dc:description/>
  <dc:language>en-US</dc:language>
  <cp:lastModifiedBy>User</cp:lastModifiedBy>
  <dcterms:modified xsi:type="dcterms:W3CDTF">2014-06-30T01:37:19Z</dcterms:modified>
  <cp:revision>3</cp:revision>
  <dc:subject/>
  <dc:title>PowerPoint 簡報</dc:title>
</cp:coreProperties>
</file>